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ED114-DDD1-4F01-A330-44A4F8DFD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E6F0C-4106-4CF7-B8C0-CD723800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5D75-A4C5-4AD2-8CAE-2F394D2BA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A3DD5-1408-4E51-A501-A55C6BF5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FF690-81F1-4760-BCB1-72B8BD116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3B2E4-E6DA-484D-AC17-1C68BB4BB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ADBE9-3113-4175-923F-DFDC32C3A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5A5F2-2A59-4775-A9DF-C4C097D9D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1DA83-6A8D-40BC-B904-552A96B5A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0B1EE-3551-4E92-8871-63C03EB5F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827DF-9FD2-46F0-A745-1CE814C8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F1C4-C5F2-4EF3-BF60-CDE99C7DD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31A93-BC3D-4E8B-9C29-ABA7CA79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4A8AC-966D-42CB-8A51-B9DF3BCC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E2117-735E-47ED-9AF7-3867486B1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DEBDA-3915-4EDF-B42D-4ACF6E1DA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29F91-E761-4A00-812F-FA1538AD6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CE7C9E-E12A-4D6C-859A-1120663BB9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AA86B-B0E5-46BF-9C65-393992A54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6C4DA-FD8A-46A3-A5A6-90A4CB228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2B7E1-60EA-4809-A5B5-1CA11365E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B0C8E-0E56-424B-956A-CEE6E9A80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6707-374E-4CC7-A55C-CA2004D8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01041-737C-4E1E-A099-159520C94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4A384-D70C-4EB1-B1B8-A644111AE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684E9-1E64-47E4-AC1A-64058C1A3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C4475-8EDE-4F63-9F0B-392D096BA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7938A-DC0C-4B81-AF24-EBCA63B62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B3E34-D2CD-4E44-808B-0B0C1DFA3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CA316-6BCA-4B42-9D58-4FF728D140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783984-43F5-4392-855B-FE5E23E3B9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B1AE7-2B15-457E-9F3B-576B685F5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D2038-A79C-4D9F-9F61-6DC581DD7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AA7C-282C-48ED-A785-D3DA3DCA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E93E0-FAB8-479E-81A2-F990A89B5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6730E-2D2B-4820-AC44-13AFFCB40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8B7B9-E3D8-4A08-9FC0-9379DC066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D133E-D96B-4D06-805A-062943DDF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FD82D-5289-4D4B-9D48-7DAB7A3BB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37776-3FBE-4C82-A014-7F23075C9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E1797-D220-45A7-BD29-C29CAB0C3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CB2CA-E2E9-4808-89D4-80EBE5390B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6209C3-418D-4EC5-906B-563ABCEE7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EE0C0-6E20-47D0-823C-835C4BA100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7EA8-9477-4B4A-8871-7BDFDDCB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97FFE5-E2BA-4387-8540-F331A7B32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141B2-E124-497E-AEB6-C0DB0FEEF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9104D6-D104-4408-B1D2-F6E356FA18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C000F-AF6F-4A0F-A9E4-B00D7AA6A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1043A-7F9F-442F-88C8-3742B8C2E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C0270-3704-4E0B-928C-2F9406246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C1596-33EE-49DE-AB1F-B54883AE1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D8867-A1E7-496D-A183-1ABDC86A5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BDA6A-96B8-44DE-B659-8D42291FD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01DC4-9FA4-4F8A-BD9D-C47414675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1981-2389-4889-8B4D-C83E7046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8B4623-ADE6-4936-BB55-7E216F17AD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BA9BE-E342-4049-87BC-9E13AE03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4F8D-6CB0-403B-BC1F-A1CD1327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5CA9-55FB-4EF2-8C4D-54EE19F01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F6C6-CC62-4073-9CEE-80E150CE1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3902040"/>
            <a:ext cx="3400560" cy="2949480"/>
            <a:chOff x="0" y="3902040"/>
            <a:chExt cx="3400560" cy="2949480"/>
          </a:xfrm>
        </p:grpSpPr>
        <p:sp>
          <p:nvSpPr>
            <p:cNvPr id="4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A736-8CA4-4D4F-B921-284CFA1EDE4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
          <p:cNvGrpSpPr/>
          <p:nvPr/>
        </p:nvGrpSpPr>
        <p:grpSpPr>
          <a:xfrm>
            <a:off x="0" y="3902040"/>
            <a:ext cx="3400560" cy="2949480"/>
            <a:chOff x="0" y="3902040"/>
            <a:chExt cx="3400560" cy="2949480"/>
          </a:xfrm>
        </p:grpSpPr>
        <p:sp>
          <p:nvSpPr>
            <p:cNvPr id="9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99"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1"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5CA4-3055-4612-A221-CC5F763E1C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39"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3240" y="4267080"/>
            <a:ext cx="9140760" cy="2590920"/>
            <a:chOff x="3240" y="4267080"/>
            <a:chExt cx="9140760" cy="2590920"/>
          </a:xfrm>
        </p:grpSpPr>
        <p:sp>
          <p:nvSpPr>
            <p:cNvPr id="14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5600880" y="5897520"/>
              <a:ext cx="1256760" cy="827280"/>
              <a:chOff x="5600880" y="5897520"/>
              <a:chExt cx="1256760" cy="827280"/>
            </a:xfrm>
          </p:grpSpPr>
          <p:sp>
            <p:nvSpPr>
              <p:cNvPr id="14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4" name=""/>
            <p:cNvGrpSpPr/>
            <p:nvPr/>
          </p:nvGrpSpPr>
          <p:grpSpPr>
            <a:xfrm>
              <a:off x="2819520" y="5764320"/>
              <a:ext cx="2581200" cy="1084320"/>
              <a:chOff x="2819520" y="5764320"/>
              <a:chExt cx="2581200" cy="1084320"/>
            </a:xfrm>
          </p:grpSpPr>
          <p:sp>
            <p:nvSpPr>
              <p:cNvPr id="15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 name=""/>
            <p:cNvGrpSpPr/>
            <p:nvPr/>
          </p:nvGrpSpPr>
          <p:grpSpPr>
            <a:xfrm>
              <a:off x="6553080" y="5334120"/>
              <a:ext cx="2144880" cy="1303200"/>
              <a:chOff x="6553080" y="5334120"/>
              <a:chExt cx="2144880" cy="1303200"/>
            </a:xfrm>
          </p:grpSpPr>
          <p:sp>
            <p:nvSpPr>
              <p:cNvPr id="17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1" name=""/>
            <p:cNvGrpSpPr/>
            <p:nvPr/>
          </p:nvGrpSpPr>
          <p:grpSpPr>
            <a:xfrm>
              <a:off x="8381880" y="4800600"/>
              <a:ext cx="674640" cy="409680"/>
              <a:chOff x="8381880" y="4800600"/>
              <a:chExt cx="674640" cy="409680"/>
            </a:xfrm>
          </p:grpSpPr>
          <p:sp>
            <p:nvSpPr>
              <p:cNvPr id="19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8542440" y="4897440"/>
                <a:ext cx="360360" cy="209520"/>
                <a:chOff x="8542440" y="4897440"/>
                <a:chExt cx="360360" cy="209520"/>
              </a:xfrm>
            </p:grpSpPr>
            <p:sp>
              <p:nvSpPr>
                <p:cNvPr id="20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DB89-B09F-4D3A-8720-F80716E678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45" name=""/>
          <p:cNvGrpSpPr/>
          <p:nvPr/>
        </p:nvGrpSpPr>
        <p:grpSpPr>
          <a:xfrm>
            <a:off x="3240" y="4267080"/>
            <a:ext cx="9140760" cy="2590920"/>
            <a:chOff x="3240" y="4267080"/>
            <a:chExt cx="9140760" cy="2590920"/>
          </a:xfrm>
        </p:grpSpPr>
        <p:sp>
          <p:nvSpPr>
            <p:cNvPr id="24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
            <p:cNvGrpSpPr/>
            <p:nvPr/>
          </p:nvGrpSpPr>
          <p:grpSpPr>
            <a:xfrm>
              <a:off x="5600880" y="5897520"/>
              <a:ext cx="1256760" cy="827280"/>
              <a:chOff x="5600880" y="5897520"/>
              <a:chExt cx="1256760" cy="827280"/>
            </a:xfrm>
          </p:grpSpPr>
          <p:sp>
            <p:nvSpPr>
              <p:cNvPr id="24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59" name=""/>
            <p:cNvGrpSpPr/>
            <p:nvPr/>
          </p:nvGrpSpPr>
          <p:grpSpPr>
            <a:xfrm>
              <a:off x="2819520" y="5764320"/>
              <a:ext cx="2581200" cy="1084320"/>
              <a:chOff x="2819520" y="5764320"/>
              <a:chExt cx="2581200" cy="1084320"/>
            </a:xfrm>
          </p:grpSpPr>
          <p:sp>
            <p:nvSpPr>
              <p:cNvPr id="26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6553080" y="5334120"/>
              <a:ext cx="2144880" cy="1303200"/>
              <a:chOff x="6553080" y="5334120"/>
              <a:chExt cx="2144880" cy="1303200"/>
            </a:xfrm>
          </p:grpSpPr>
          <p:sp>
            <p:nvSpPr>
              <p:cNvPr id="27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96" name=""/>
            <p:cNvGrpSpPr/>
            <p:nvPr/>
          </p:nvGrpSpPr>
          <p:grpSpPr>
            <a:xfrm>
              <a:off x="8381880" y="4800600"/>
              <a:ext cx="674640" cy="409680"/>
              <a:chOff x="8381880" y="4800600"/>
              <a:chExt cx="674640" cy="409680"/>
            </a:xfrm>
          </p:grpSpPr>
          <p:sp>
            <p:nvSpPr>
              <p:cNvPr id="29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8542440" y="4897440"/>
                <a:ext cx="360360" cy="209520"/>
                <a:chOff x="8542440" y="4897440"/>
                <a:chExt cx="360360" cy="209520"/>
              </a:xfrm>
            </p:grpSpPr>
            <p:sp>
              <p:nvSpPr>
                <p:cNvPr id="30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3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10"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A842-E176-4F0D-9A9D-52CA866868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a:rPr>
              <a:t>What role do individual differences play in the way L2 learners respond to corrective feedback?</a:t>
            </a:r>
            <a:endParaRPr b="0" lang="en-US" sz="3600" spc="-1" strike="noStrike">
              <a:solidFill>
                <a:srgbClr val="b2b2b2"/>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od Elli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University of Auck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is corrective feedback?</a:t>
            </a:r>
            <a:endParaRPr b="0" lang="en-US" sz="4400" spc="-1" strike="noStrike">
              <a:solidFill>
                <a:srgbClr val="ccecff"/>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Corrective feedback takes the form of responses to learner utterances containing an error. The responses can consist of (1) an indication that an error has been committed, or (2) provision of the correct target language form or (3) metalinguistic information about the nature of the error, or any combination of the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yster and Ranta’s (1997) taxonomy</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yster &amp; Ranta (1997) distinguish the following types of corrective feedback occurring in French immersion classrooms in Canad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licit correction – this refers to the explicit provision of the correct form together with an explicit indication that what the learner said was incorrec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asts – a reformulation of all or part of a learner’s utterance, minus the error.</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requests – an indication that the learner’s utterance has been misunderstood (e.g. ‘pard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linguistic feedback – comments, information or questions related to the well-formedness of the learner’s utterance without explicitly providing the correct form.</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citation – an attempt to directly elicit the correct form from the learner (e.g. prompts involving partial repetition of the learner’s utterance with a blank for the learner to comple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tition –  repetition of the learner’s utterance with or without highlighting the erro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Uptake</a:t>
            </a:r>
            <a:endParaRPr b="0" lang="en-US" sz="4400" spc="-1" strike="noStrike">
              <a:solidFill>
                <a:srgbClr val="ccecff"/>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Uptake refers to the learner’s utterance that imemdiately follows the teacher’s feedback and that constitutes a reaction in some way to the teacher’s intention to draw to some aspect of the learner’s initial utterance. Uptake can take the form of ‘needs repair’ (unsuccessful) or ‘repair’ (successful). Successful uptake is indicative of ‘noticing’.  However, uptake cannot be viewed as a measure of acquis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Key Issues (1)</a:t>
            </a:r>
            <a:endParaRPr b="0" lang="en-US" sz="4400" spc="-1" strike="noStrike">
              <a:solidFill>
                <a:srgbClr val="b2b2b2"/>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What role does corrective feedback play in L2 acquiisi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gative evidence -  this arises when the feedback signals that the learner’s utterance contains an erro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sitive evidence -  this arises when the feedback shows the learner what the correct form of his/her error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Key Issues (2)</a:t>
            </a:r>
            <a:endParaRPr b="0" lang="en-US" sz="4400" spc="-1" strike="noStrike">
              <a:solidFill>
                <a:srgbClr val="b2b2b2"/>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ype of corrective feedback works best for language acquisition?</a:t>
            </a:r>
            <a:endParaRPr b="0" lang="en-US" sz="32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it feedback</a:t>
            </a:r>
            <a:endParaRPr b="0" lang="en-US" sz="32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feed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Key Issues (3)</a:t>
            </a:r>
            <a:endParaRPr b="0" lang="en-US" sz="4400" spc="-1" strike="noStrike">
              <a:solidFill>
                <a:srgbClr val="b2b2b2"/>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role do individual differences play in the effect that corrective feedback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on acquisition?</a:t>
            </a:r>
            <a:endParaRPr b="0" lang="en-US" sz="32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itive factors (e.g. language aptitude/ working memory)</a:t>
            </a:r>
            <a:endParaRPr b="0" lang="en-US" sz="32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ive factors (e.g. motivation/ anxiety/ person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02:31:24Z</dcterms:created>
  <dc:creator>rell035</dc:creator>
  <dc:description/>
  <dc:language>en-US</dc:language>
  <cp:lastModifiedBy>rell035</cp:lastModifiedBy>
  <dcterms:modified xsi:type="dcterms:W3CDTF">2005-06-23T02:42:21Z</dcterms:modified>
  <cp:revision>2</cp:revision>
  <dc:subject/>
  <dc:title>What role do individual differences play in the way L2 learners respond to corrective feedback?</dc:title>
</cp:coreProperties>
</file>